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1EA-06CC-48C2-A0B3-A9A0AD3E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F57-5F60-4056-BF40-EE3C25A8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FCA-C754-47AB-A376-FF791E54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BE8-CCDE-47C7-AE44-4B3C85B1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804-A405-42AF-A80D-CB42586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CC9-0A9E-452E-9E59-948D8A2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014-4026-4554-9D81-C1271B8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88B-2F2D-42FA-9070-A5262B09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D55-4A04-4AF3-85FA-D20B3B8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66E-529C-4C21-90B7-8F4213E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4B6-C378-41D5-BDEB-8BB938C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6B-5FE6-41E5-B6F3-AA32807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489-D1C4-4159-81CB-BC954655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: Parallel and Perpendicula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that is perpendicular to y = 1/4x + 7 that goes through the point (4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that is perpendicular to 4x - 2y = 9 that goes through the point (8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me slope, different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y = -2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are the opposite reciprocal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y = 1/2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lope of a 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y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x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/3 x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lope of a 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 + 8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6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lines -4x + y = -5 and y = 1/4 x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, perpendicular, or nei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whether the lines are parallel, perpendicular, or n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1/3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/3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parallel to y = -3x that goes through the point (3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parallel to y = -2x + 3 that goes through the point (-3,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3:14:52Z</dcterms:created>
  <dc:creator>Sharon Fieldman</dc:creator>
  <dc:description/>
  <dc:language>en-US</dc:language>
  <cp:lastModifiedBy>njamison</cp:lastModifiedBy>
  <dcterms:modified xsi:type="dcterms:W3CDTF">2011-05-04T14:04:02Z</dcterms:modified>
  <cp:revision>18</cp:revision>
  <dc:subject/>
  <dc:title>Goal 2.02: Parallel and Perpendicular Lines</dc:title>
</cp:coreProperties>
</file>